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899-A9F9-4199-87BC-7DBD3D06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B5D-769A-4334-AECA-CF57F4C5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FB9-E892-4EA2-AD8A-D2BBD4BB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A2F-3F2E-4E33-94CC-18B37E57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AF07-D5FD-42D8-9477-57643BD2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5952-2BF6-4C01-AC83-699E7AAC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4315-2125-46DC-B270-3E29C75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5104-FB30-4EE8-A4F5-C9FB8F03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7C3E-0536-4153-A16D-B1CB9F90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E89-16A3-42D4-8590-B34DF8A4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4DDE-1ECC-407F-8AEF-78F808C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C93A-2392-4625-AF49-56DACB10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B959-F127-4FC7-930E-2E02461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F4E5-7DC9-4BBA-A326-74EB0DB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2316-F983-4FE7-93E9-95D424C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C9F9-3AB6-4CA3-B5AB-821BAC39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743F-F265-475B-96E9-EA815F28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FB4A3-25E6-47BC-ABC1-8859A3A3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6A892-A14E-4F17-8CA9-C0BC4EBC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CC015-C222-424F-8DC4-807417C4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A3A30-ACC8-44D7-A25F-4A5852C0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BDFEE-42F4-40BC-8DCC-C0D67DC6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F4C-5919-43EB-B4E2-ECF029DF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7F295-3CE8-45B0-BDC1-022D81C1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05E43-5551-418C-9A46-4825CDC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C7F75B-68D6-4300-98F1-9C4C0A36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772C46-D9C5-4829-86A1-B0860FA8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528BC-9698-4914-8DE2-ECD150CF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4DC18-27F9-4F7B-B850-81E00EF6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81578-0D47-4D54-A7D1-036C90A3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D3372-F897-4928-AC83-42DE9A50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ABECE-6B97-49D1-97E8-371E8EC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D519F-5E1F-48F7-B499-2B7E9E89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DBB-00AC-4CBE-883F-FB46CFA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483473-9846-4FDE-B286-431842D5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334E4-C98C-4B70-948E-8AD62D14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A87E53-08F9-4779-801F-3B45DF4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F3CFA-806D-44A6-B990-9B425D4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0FBE6-52EF-464B-B91C-F781EE5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2C457-8E9C-4077-A6B2-E167F5CB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BF44D-3B2E-4A5D-BA11-7931BF77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3CCFB7-8604-4080-A1E6-7FF1A442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3B739-4880-44C1-A1B8-535BB72E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EC86-8FC3-4E3F-A07C-7E9024EC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9323-4E9E-4628-964A-1800F568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F25D-FDEC-4323-8703-39C7A153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82967-2BC9-4318-9B30-4C45A66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4942-9E29-4E29-84E1-2925FB5F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E7038-8A52-4380-B298-4D28AC98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0D115-666C-4D20-AD3C-FE836FC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CD71-A784-46BE-96AB-B2BF3F7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229C3-F346-4BCC-B32F-CB2EC0DF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AFE9-D154-4C37-88AA-F25ACCB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B56F-1592-4755-B17F-63A7281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DF83D-F29D-4929-8F65-E1CB445B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E36-62E3-42C1-BA92-1C8C45D5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A5BA-0E13-407D-A727-38AC5259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A80-295D-4497-AC68-66ACD461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AAF-B64C-43BC-8956-235E40A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ED8-2225-46EC-99B8-F4ABF13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753F-4872-465E-B5E1-83CC898B050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1EA-C677-4091-A6F1-DCD2BAA9085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9F93-0FA8-4357-BAF7-E8CE1D56687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19C-977C-4056-BDCE-460E0BCF0E3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2ADA-8B64-4576-BA1B-394CA2359EA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840D-3E26-4575-9814-17F6F1DE8E4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4C9-5377-4F82-AC52-DBD71A50CDD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1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5DA-2AA9-40BA-9809-C0BF93EA699C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2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9066-8FBB-42DB-B130-1CF5AC4FFA8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FEAF-797C-4658-AA9D-B44B332290B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ros.kz/" TargetMode="External"/><Relationship Id="rId2" Type="http://schemas.openxmlformats.org/officeDocument/2006/relationships/image" Target="../media/image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991280" cy="405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775f55"/>
                </a:solidFill>
                <a:latin typeface="Calibri"/>
                <a:ea typeface="PMingLiU"/>
              </a:rPr>
              <a:t>Promoting Transparency and Accountability</a:t>
            </a:r>
            <a:br>
              <a:rPr sz="2000"/>
            </a:br>
            <a:r>
              <a:rPr b="1" lang="en-US" sz="3200" spc="-1" strike="noStrike">
                <a:solidFill>
                  <a:srgbClr val="775f55"/>
                </a:solidFill>
                <a:latin typeface="Calibri"/>
                <a:ea typeface="PMingLiU"/>
              </a:rPr>
              <a:t>in Kazakhstan</a:t>
            </a:r>
            <a:br>
              <a:rPr sz="2800"/>
            </a:br>
            <a:br>
              <a:rPr sz="22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on Artemyev                                      Dinara Pogodin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Transparency &amp; Accountabilit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Program Coordinator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oros Foundation-Kazakhstan</a:t>
            </a:r>
            <a:br>
              <a:rPr sz="1600"/>
            </a:br>
            <a:r>
              <a:rPr b="0" lang="en-US" sz="16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www.soros.k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br>
              <a:rPr sz="1400"/>
            </a:br>
            <a:endParaRPr b="0" lang="en-US" sz="1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w Cen MT"/>
              </a:rPr>
              <a:t>Azerbaijan MS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23" name="Picture 6" descr="soros-logo"/>
          <p:cNvPicPr/>
          <p:nvPr/>
        </p:nvPicPr>
        <p:blipFill>
          <a:blip r:embed="rId2"/>
          <a:stretch/>
        </p:blipFill>
        <p:spPr>
          <a:xfrm>
            <a:off x="3886200" y="0"/>
            <a:ext cx="1082520" cy="12193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Open Society Institute and Soros Foundation-Kazakhstan have been trailblazers in the field of public finance transparency with the launch of Caspian Revenue Watch (OSI) and Kazakhstan Revenue Watch (SFK) in 2002-2004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Arial"/>
              </a:rPr>
              <a:t>Strategies Overview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226" name="Группа 11"/>
          <p:cNvGrpSpPr/>
          <p:nvPr/>
        </p:nvGrpSpPr>
        <p:grpSpPr>
          <a:xfrm>
            <a:off x="4648320" y="1828800"/>
            <a:ext cx="2057400" cy="1523880"/>
            <a:chOff x="4648320" y="1828800"/>
            <a:chExt cx="2057400" cy="1523880"/>
          </a:xfrm>
        </p:grpSpPr>
        <p:sp>
          <p:nvSpPr>
            <p:cNvPr id="227" name="Нашивка 12"/>
            <p:cNvSpPr/>
            <p:nvPr/>
          </p:nvSpPr>
          <p:spPr>
            <a:xfrm>
              <a:off x="4648320" y="1828800"/>
              <a:ext cx="2057400" cy="152388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dd8047"/>
            </a:solidFill>
            <a:ln w="19080">
              <a:solidFill>
                <a:srgbClr val="5947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Нашивка 4"/>
            <p:cNvSpPr/>
            <p:nvPr/>
          </p:nvSpPr>
          <p:spPr>
            <a:xfrm>
              <a:off x="5226120" y="2274840"/>
              <a:ext cx="144036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1" lang="en-US" sz="1600" spc="-1" strike="noStrike">
                  <a:solidFill>
                    <a:srgbClr val="594740"/>
                  </a:solidFill>
                  <a:latin typeface="Arial"/>
                </a:rPr>
                <a:t>2010-20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20"/>
          <p:cNvGrpSpPr/>
          <p:nvPr/>
        </p:nvGrpSpPr>
        <p:grpSpPr>
          <a:xfrm>
            <a:off x="455760" y="1828800"/>
            <a:ext cx="2058840" cy="1371600"/>
            <a:chOff x="455760" y="1828800"/>
            <a:chExt cx="2058840" cy="1371600"/>
          </a:xfrm>
        </p:grpSpPr>
        <p:sp>
          <p:nvSpPr>
            <p:cNvPr id="230" name="Нашивка 21"/>
            <p:cNvSpPr/>
            <p:nvPr/>
          </p:nvSpPr>
          <p:spPr>
            <a:xfrm>
              <a:off x="455760" y="1828800"/>
              <a:ext cx="2058840" cy="1371600"/>
            </a:xfrm>
            <a:custGeom>
              <a:avLst/>
              <a:gdLst>
                <a:gd name="textAreaLeft" fmla="*/ 0 w 2058840"/>
                <a:gd name="textAreaRight" fmla="*/ 2059200 w 205884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dd8047"/>
            </a:solidFill>
            <a:ln w="19080">
              <a:solidFill>
                <a:srgbClr val="5947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Нашивка 4"/>
            <p:cNvSpPr/>
            <p:nvPr/>
          </p:nvSpPr>
          <p:spPr>
            <a:xfrm>
              <a:off x="1015560" y="2232360"/>
              <a:ext cx="1441440" cy="58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1" lang="en-US" sz="1600" spc="-1" strike="noStrike">
                  <a:solidFill>
                    <a:srgbClr val="594740"/>
                  </a:solidFill>
                  <a:latin typeface="Arial"/>
                </a:rPr>
                <a:t>2004-20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Группа 23"/>
          <p:cNvGrpSpPr/>
          <p:nvPr/>
        </p:nvGrpSpPr>
        <p:grpSpPr>
          <a:xfrm>
            <a:off x="2590920" y="1828800"/>
            <a:ext cx="2098440" cy="1447920"/>
            <a:chOff x="2590920" y="1828800"/>
            <a:chExt cx="2098440" cy="1447920"/>
          </a:xfrm>
        </p:grpSpPr>
        <p:sp>
          <p:nvSpPr>
            <p:cNvPr id="233" name="Нашивка 24"/>
            <p:cNvSpPr/>
            <p:nvPr/>
          </p:nvSpPr>
          <p:spPr>
            <a:xfrm>
              <a:off x="2590920" y="1828800"/>
              <a:ext cx="2098440" cy="1447920"/>
            </a:xfrm>
            <a:custGeom>
              <a:avLst/>
              <a:gdLst>
                <a:gd name="textAreaLeft" fmla="*/ 0 w 2098440"/>
                <a:gd name="textAreaRight" fmla="*/ 2098800 w 20984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dd8047"/>
            </a:solidFill>
            <a:ln w="19080">
              <a:solidFill>
                <a:srgbClr val="5947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Нашивка 4"/>
            <p:cNvSpPr/>
            <p:nvPr/>
          </p:nvSpPr>
          <p:spPr>
            <a:xfrm>
              <a:off x="3166200" y="2203200"/>
              <a:ext cx="14691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1" lang="en-US" sz="1600" spc="-1" strike="noStrike">
                  <a:solidFill>
                    <a:srgbClr val="594740"/>
                  </a:solidFill>
                  <a:latin typeface="Arial"/>
                </a:rPr>
                <a:t>2006-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Группа 26"/>
          <p:cNvGrpSpPr/>
          <p:nvPr/>
        </p:nvGrpSpPr>
        <p:grpSpPr>
          <a:xfrm>
            <a:off x="6705720" y="1828800"/>
            <a:ext cx="2057400" cy="1447920"/>
            <a:chOff x="6705720" y="1828800"/>
            <a:chExt cx="2057400" cy="1447920"/>
          </a:xfrm>
        </p:grpSpPr>
        <p:sp>
          <p:nvSpPr>
            <p:cNvPr id="236" name="Нашивка 27"/>
            <p:cNvSpPr/>
            <p:nvPr/>
          </p:nvSpPr>
          <p:spPr>
            <a:xfrm>
              <a:off x="6705720" y="1828800"/>
              <a:ext cx="2057400" cy="1447920"/>
            </a:xfrm>
            <a:custGeom>
              <a:avLst/>
              <a:gdLst>
                <a:gd name="textAreaLeft" fmla="*/ 0 w 2057400"/>
                <a:gd name="textAreaRight" fmla="*/ 2057400 w 20574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dd8047"/>
            </a:solidFill>
            <a:ln w="19080">
              <a:solidFill>
                <a:srgbClr val="5947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Нашивка 4"/>
            <p:cNvSpPr/>
            <p:nvPr/>
          </p:nvSpPr>
          <p:spPr>
            <a:xfrm>
              <a:off x="7322760" y="2209680"/>
              <a:ext cx="14403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280" rIns="17280" tIns="17280" bIns="1728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200240"/>
                  <a:tab algn="l" pos="2400480"/>
                  <a:tab algn="l" pos="3600360"/>
                  <a:tab algn="l" pos="4800600"/>
                  <a:tab algn="l" pos="6000840"/>
                  <a:tab algn="l" pos="7201080"/>
                  <a:tab algn="l" pos="8400960"/>
                  <a:tab algn="l" pos="9601200"/>
                  <a:tab algn="l" pos="10801440"/>
                </a:tabLst>
              </a:pPr>
              <a:r>
                <a:rPr b="1" lang="en-US" sz="1600" spc="-1" strike="noStrike">
                  <a:solidFill>
                    <a:srgbClr val="594740"/>
                  </a:solidFill>
                  <a:latin typeface="Arial"/>
                </a:rPr>
                <a:t>2014-20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3"/>
          <p:cNvSpPr/>
          <p:nvPr/>
        </p:nvSpPr>
        <p:spPr>
          <a:xfrm>
            <a:off x="6027840" y="2498760"/>
            <a:ext cx="129528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0"/>
          <p:cNvSpPr/>
          <p:nvPr/>
        </p:nvSpPr>
        <p:spPr>
          <a:xfrm>
            <a:off x="304920" y="3657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revenue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2"/>
          <p:cNvSpPr/>
          <p:nvPr/>
        </p:nvSpPr>
        <p:spPr>
          <a:xfrm>
            <a:off x="2438280" y="3657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nue and budget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3"/>
          <p:cNvSpPr/>
          <p:nvPr/>
        </p:nvSpPr>
        <p:spPr>
          <a:xfrm>
            <a:off x="4572000" y="3657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chai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4"/>
          <p:cNvSpPr/>
          <p:nvPr/>
        </p:nvSpPr>
        <p:spPr>
          <a:xfrm>
            <a:off x="6705720" y="36576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ransparency to 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5"/>
          <p:cNvSpPr/>
          <p:nvPr/>
        </p:nvSpPr>
        <p:spPr>
          <a:xfrm>
            <a:off x="304920" y="4876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I endo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6"/>
          <p:cNvSpPr/>
          <p:nvPr/>
        </p:nvSpPr>
        <p:spPr>
          <a:xfrm>
            <a:off x="2438280" y="48769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CSO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4495680" y="4876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TI endor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8"/>
          <p:cNvSpPr/>
          <p:nvPr/>
        </p:nvSpPr>
        <p:spPr>
          <a:xfrm>
            <a:off x="6705720" y="48769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ening the TA field, culture of accoun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304920" y="58672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o narrowly foc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0"/>
          <p:cNvSpPr/>
          <p:nvPr/>
        </p:nvSpPr>
        <p:spPr>
          <a:xfrm>
            <a:off x="2438280" y="586728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ck of system approach, two separat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1"/>
          <p:cNvSpPr/>
          <p:nvPr/>
        </p:nvSpPr>
        <p:spPr>
          <a:xfrm>
            <a:off x="4572000" y="58672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eading oneself too th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2"/>
          <p:cNvSpPr/>
          <p:nvPr/>
        </p:nvSpPr>
        <p:spPr>
          <a:xfrm>
            <a:off x="6781680" y="58672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parat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18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Arial"/>
              </a:rPr>
              <a:t>Strengthening the field…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gaps in the Public Resource Chain (including funding and capacity gap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ize and coordinate donors to close the gap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capacity of new acto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Follow-the-Money network (movement being a more ambitious goa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te public discussion and debate through making numbers meaningfu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e EITI implementation out of the comfort zone to the new height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1518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Arial"/>
              </a:rPr>
              <a:t>Culture of Accountability…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ing local, to the lowest budget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igning interests with the central govern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standing communiti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mpowering community members to demand transparency and accountability, train local self-government to respond effectively and efficient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ltivating engagement and particip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licizing succes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ng from best practices to regulatory standard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704404"/>
                </a:solidFill>
                <a:latin typeface="Arial"/>
              </a:rPr>
              <a:t>Thank you</a:t>
            </a:r>
            <a:r>
              <a:rPr b="1" lang="ru-RU" sz="5500" spc="-1" strike="noStrike">
                <a:solidFill>
                  <a:srgbClr val="704404"/>
                </a:solidFill>
                <a:latin typeface="Arial"/>
              </a:rPr>
              <a:t>!</a:t>
            </a:r>
            <a:endParaRPr b="0" lang="en-US" sz="5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4404"/>
                </a:solidFill>
                <a:latin typeface="Arial"/>
              </a:rPr>
              <a:t>www.soros.kz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4T04:54:05Z</dcterms:created>
  <dc:creator>Angela Mugore</dc:creator>
  <dc:description/>
  <cp:keywords/>
  <dc:language>en-US</dc:language>
  <cp:lastModifiedBy>Anton Artemyev</cp:lastModifiedBy>
  <dcterms:modified xsi:type="dcterms:W3CDTF">2014-11-24T09:46:31Z</dcterms:modified>
  <cp:revision>336</cp:revision>
  <dc:subject/>
  <dc:title>Drilling down THE CIVIL SOCIETY GUIDE TO Extractive industry revenues and the eiti</dc:title>
</cp:coreProperties>
</file>